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55D6-7F67-45D6-9DB8-10FE1AD9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E19A-121F-4B5F-AF5A-FE96FA81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51C-DC58-4C9C-B280-7FDC7E2A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D62-BD61-4400-881B-2423C9E0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862F-1330-44FE-A116-9A7052BA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8AFE-C711-4B7C-9AF8-DCD60C56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28F7-D1DC-429E-AF1A-E13D4797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A566-71E3-47CD-8DF1-AF1FCD84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5632-E885-4C34-B245-0801C6CB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3A15-3482-4D4B-8EE0-08F1DDA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5241-5DB3-4C8E-A121-0EE2740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E2C2-5675-4806-9D65-AB31695E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54DC-4109-47AF-A54F-665ABF5E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750B-E071-4B00-B895-DBBF8DBD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6176-F7BB-448C-A484-613AD1C3E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D190-7D75-4D98-B3FA-ECC0CEA7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DEB3-BA7F-4A68-A23E-7E887B26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2240E2-29AD-4E16-BA5E-AEBFEC289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E9B97E-CBFB-4CB4-AFD0-DDC4F415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DDE68-E8BA-4473-AA97-893212AB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BEAC8-3B9C-440F-B4D2-28CCE56D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5DA158-A268-4DC3-B394-FD8291B33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8BB-9124-4C57-8BF8-E484AE52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DCB4D-D786-4473-BCBC-2E4F4CAF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5F8C8-2F45-461B-86B4-9C25D2AA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F777B9-A4A9-4076-BA6B-2C4C61EC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0D3AA-A533-47B2-878B-CF161820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2EB4F9-74EC-4F1D-8C4D-9320606F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818D9-7331-4A79-9B86-615E2CB0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AFE0E3-AB17-4151-B6EA-6F43FE5ED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4F57D-2407-40CF-A89A-EB0E21C4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15A3-BB2B-4280-8126-3F2A573C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6A37B-A147-485B-BE2F-4BB4CDC2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A5B-34B2-41D7-8A48-AD9F21F3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9C54A-EF04-4FBE-B6E9-9BDAEEDB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18539-830E-41B9-80DB-99B79DBB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1269B-C9DA-4670-9FDD-383B93DC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631D4-0AFC-4FB7-A215-5EB4DE8C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AEAB9-F0E6-4557-B9E4-7D306BBB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ECB60-51D8-4FCC-B057-F7CED6F7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D6DCA-1F9E-4831-9034-16D8B231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4714-5D90-4D65-B0BE-0EC26A0C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F8FC-9C23-41B6-9896-498B61B9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DC6A-E61F-406F-88E4-C1BA74C8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DAD6-E922-48C7-8EBC-40C82665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33DD-B1F0-4C02-8A6F-03608CB9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D82F-5B2A-4AEB-B8DF-0512161A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D01C-4806-472B-B93C-D2FB42C1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5D1-CD49-4701-B06A-6A28CA22350C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5D4A-4266-44F9-95FC-1D0C914F270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E203-D564-42BC-ABFD-393E9CF5B240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677A-4BB5-49D2-8146-898A59EFB1A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5840" y="78552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42445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копии: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43000" y="378612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Georgia"/>
              </a:rPr>
              <a:t>а)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документа, подтверждающего наличие лицензии на осуществление образовательной деятельности (с приложениями); 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Georgia"/>
              </a:rPr>
              <a:t>б)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свидетельства о государственной аккредитации образовательного учреждения (с приложениями); </a:t>
            </a:r>
            <a:br>
              <a:rPr sz="2800"/>
            </a:br>
            <a:r>
              <a:rPr b="1" lang="ru-RU" sz="2800" spc="-1" strike="noStrike">
                <a:solidFill>
                  <a:srgbClr val="424456"/>
                </a:solidFill>
                <a:latin typeface="Georgia"/>
              </a:rPr>
              <a:t>в)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утвержденных в установленном порядке плана финансово-хозяйственной деятельности или бюджетной сметы образовательного учрежден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43000" y="378612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Georgia"/>
              </a:rPr>
              <a:t>Пользователю должна предоставляться информация о структуре сайта, включающая в себя ссылки, обеспечивающие доступ к информации, указанных в слайдах 3-7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243000" y="378612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4456"/>
                </a:solidFill>
                <a:latin typeface="Georgia"/>
              </a:rPr>
              <a:t>При размещении информации на официальных сайтах в сети "Интернет" и ее обновлении обеспечивается соблюдение требований к обеспечению безопасности персональных данных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3200"/>
            </a:b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Технологические и программные средства, которые используются для функционирования официальных сайтов в сети "Интернет", должны обеспечивать:</a:t>
            </a:r>
            <a:br>
              <a:rPr sz="1800"/>
            </a:b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9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3780000"/>
            <a:ext cx="869796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243000" y="421488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24456"/>
                </a:solidFill>
                <a:latin typeface="Georgia"/>
              </a:rPr>
              <a:t>Информация на официальных сайтах в сети "Интернет" размещается на русском языке, а также, помимо русского языка может быть размещена на государственных языках республик, входящих в состав Российской Федерации, или на иностранных языках. 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3200"/>
            </a:b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42920" y="424764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Цель </a:t>
            </a: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- обеспечения открытости и доступности информации об образовательном учрежден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Информация для размещения: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3718080"/>
            <a:ext cx="8753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Информация для размещения: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1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3767040"/>
            <a:ext cx="869796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Информация для размещения: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3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3718080"/>
            <a:ext cx="87663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Информация для размещения:</a:t>
            </a:r>
            <a:br>
              <a:rPr sz="4400"/>
            </a:b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5" name="Подзаголовок 2" descr=""/>
          <p:cNvPicPr/>
          <p:nvPr/>
        </p:nvPicPr>
        <p:blipFill>
          <a:blip r:embed="rId1"/>
          <a:stretch/>
        </p:blipFill>
        <p:spPr>
          <a:xfrm>
            <a:off x="237960" y="3730680"/>
            <a:ext cx="869796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43000" y="378612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П</a:t>
            </a:r>
            <a:r>
              <a:rPr b="0" lang="ru-RU" sz="1800" spc="-1" strike="noStrike">
                <a:solidFill>
                  <a:srgbClr val="424456"/>
                </a:solidFill>
                <a:latin typeface="Georgia"/>
              </a:rPr>
              <a:t>орядок оказания платных образовательных услуг с указанием сведений, предусмотренных Правилами оказания платных образовательных услуг, утвержденных постановлением Правительства Российской Федерации от 5 июля 2001 г. N 505 (Собрание законодательства Российской Федерации, 2001, N 29, ст. 3016; 2003, N 14, ст. 1281; 2006, N 1, ст. 156; 2008, N 38, ст. 4317), в том числе образца договора об оказании платных образовательных услуг, стоимости платных образовательных услуг; 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243000" y="378612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Отчет о результатах самооценки деятельности образовательного учреждения (самообследования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Порядок размещения в сети "Интернет" и обновления информации об образовательном учреждении</a:t>
            </a:r>
            <a:br>
              <a:rPr sz="4400"/>
            </a:br>
            <a:br>
              <a:rPr sz="4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243000" y="3786120"/>
            <a:ext cx="8686800" cy="32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24456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Отчет о деятельности образовательного учреждения за год, включающий в себя сведения об основных результатах деятельности образовательного учреждения;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21:06:18Z</dcterms:created>
  <dc:creator>inet</dc:creator>
  <dc:description/>
  <dc:language>en-US</dc:language>
  <cp:lastModifiedBy>inet</cp:lastModifiedBy>
  <dcterms:modified xsi:type="dcterms:W3CDTF">2012-11-14T22:56:14Z</dcterms:modified>
  <cp:revision>6</cp:revision>
  <dc:subject/>
  <dc:title>Порядок размещения в сети "Интернет" и обновления информации об образовательном учреждении </dc:title>
</cp:coreProperties>
</file>